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4ADDA-B004-42A9-A802-CE8ABFBCE1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3B3CE-DF1D-4FC1-9942-66BBBD7CB6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2980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800" y="3879720"/>
            <a:ext cx="82980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0760" y="132408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0760" y="387972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267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4280" y="1324080"/>
            <a:ext cx="267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9760" y="1324080"/>
            <a:ext cx="267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800" y="3879720"/>
            <a:ext cx="267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4280" y="3879720"/>
            <a:ext cx="267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9760" y="3879720"/>
            <a:ext cx="267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800" y="1324080"/>
            <a:ext cx="829800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2980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49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0760" y="1324080"/>
            <a:ext cx="4049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800" y="162000"/>
            <a:ext cx="822168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0760" y="1324080"/>
            <a:ext cx="4049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49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0760" y="132408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0760" y="387972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0760" y="132408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82980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800" y="1324080"/>
            <a:ext cx="82980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7-</a:t>
            </a:r>
            <a:fld id="{057A9CFF-AFF5-4280-9C7F-28649E11A1C1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8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lexible Budgets, Variances, and Management Control: II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verhead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8440" y="1219320"/>
            <a:ext cx="8069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verhead costs are significant for most organiza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Overhea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call that variable overhead is allocated to products and services using a budgeted variable overhead rat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parate into efficiency and spending varian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Overhea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call that fixed overhead is allocated to products and services using a budgeted fixed overhead rat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parate into spending and production volume varian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77 - 27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riable Overhead Cost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82980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overhead efficiency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actual units of the allocation base - budgeted units of the allocation base) x budgeted variable overhead allocation rat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4,500 - 4,000) x $30 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15,000 U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overhead spending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actual variable overhead rate - budgeted variable overhead rate) x  actual units of the allocation bas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$29.00 - $30.00) x 4,500 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4,500 F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79 - 28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riable Overhead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79 - 28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05320" y="2895480"/>
            <a:ext cx="3581280" cy="7621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lexible Budget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0,500 U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66880" y="1752480"/>
            <a:ext cx="251460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pending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,500 F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120" y="1752480"/>
            <a:ext cx="259056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fficiency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5,000 U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62520" y="2666880"/>
            <a:ext cx="26668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4120" y="266688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62520" y="243828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629400" y="243828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8440" y="2314080"/>
            <a:ext cx="18687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verhea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xed Overhead Cost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82980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overhead spending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 fixed overhead costs – Static budgeted fixed overhead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85,000 - $276,000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9,000 U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ion volume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fixed overhead - [ (Budgeted fixed overhead allocation base allowed for actual output units) x (Budgeted fixed overhead rate) ]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76,000 - [ (0.40 x 10,000) x $57.50 ]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76,000 - $230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46,000 U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83 - 28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verhead Cost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988640" y="1219320"/>
            <a:ext cx="3421080" cy="42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Overhea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89 - 29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875200" y="1219320"/>
            <a:ext cx="281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Overhea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743200" y="2286000"/>
            <a:ext cx="0" cy="13716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743200" y="3657600"/>
            <a:ext cx="18288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2057400"/>
            <a:ext cx="1524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How th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ost i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lann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an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ontroll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4343400"/>
            <a:ext cx="152388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8000"/>
          </a:bodyPr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How Cos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01680" indent="-301680"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ar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01680" indent="-301680"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Allocat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01680" indent="-301680"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to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01680" indent="-301680"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roduc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09680" y="2209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86200" y="3733920"/>
            <a:ext cx="1676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9000"/>
          </a:bodyPr>
          <a:p>
            <a:pPr marL="270720" indent="-27072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Volu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743200" y="2514240"/>
            <a:ext cx="1523880" cy="11430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248520" y="2286000"/>
            <a:ext cx="0" cy="13716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248520" y="3657600"/>
            <a:ext cx="18288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715000" y="2209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391520" y="3733920"/>
            <a:ext cx="16761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9000"/>
          </a:bodyPr>
          <a:p>
            <a:pPr marL="270720" indent="-27072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Volu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248520" y="2971800"/>
            <a:ext cx="152388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743200" y="4495680"/>
            <a:ext cx="0" cy="13716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743200" y="5867280"/>
            <a:ext cx="18288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09680" y="44197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86200" y="5943600"/>
            <a:ext cx="1676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9000"/>
          </a:bodyPr>
          <a:p>
            <a:pPr marL="270720" indent="-27072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Volu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2743200" y="4723920"/>
            <a:ext cx="1523880" cy="11430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248520" y="4495680"/>
            <a:ext cx="0" cy="13716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248520" y="5867280"/>
            <a:ext cx="18288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15000" y="44197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391520" y="59436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9000"/>
          </a:bodyPr>
          <a:p>
            <a:pPr marL="270720" indent="-27072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Volu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6248520" y="4723920"/>
            <a:ext cx="1523880" cy="11430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16:33:04Z</dcterms:created>
  <dc:creator>User</dc:creator>
  <dc:description/>
  <dc:language>en-US</dc:language>
  <cp:lastModifiedBy>John Moore</cp:lastModifiedBy>
  <cp:lastPrinted>1999-06-03T17:08:38Z</cp:lastPrinted>
  <dcterms:modified xsi:type="dcterms:W3CDTF">2003-03-22T13:12:46Z</dcterms:modified>
  <cp:revision>8</cp:revision>
  <dc:subject/>
  <dc:title>Overhead Cost Variances</dc:title>
</cp:coreProperties>
</file>